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A91E-4F9C-4D31-8050-60872AA7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DD9-0EFA-430A-96DC-C31F47D4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92B-17A2-4957-9986-532DA017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550-8AFA-429C-A8FC-543F7FC0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A27-B718-40D5-9240-1EEC9D1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C1D-5E9A-47A0-B903-CE4A3D8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393-F03D-4E5F-B625-B30192AB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05F-592E-4970-ABCD-9A36AE6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721-4FF2-4556-83BA-5C452B5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2B6-D924-4975-958F-FB093B6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26E-5E76-4329-857C-8A45834C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E70-72E2-4A76-967C-C8BC873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DDDF-F36B-462B-AF6A-E217B204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uxurymobilehomes.net/wp-content/uploads/2011/08/Luxury-Homes-Pictur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uxury Homes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447920"/>
            <a:ext cx="5867640" cy="368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57531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Nuestros Suen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5562720"/>
            <a:ext cx="710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y: Marissa Rizzolo and Joy Maswos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514800">
            <a:off x="7391160" y="266652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f010"/>
                </a:solidFill>
                <a:latin typeface="Arial"/>
              </a:rPr>
              <a:t>Nuestros casa esta localizada en i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2695680" cy="20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81080" y="4267080"/>
            <a:ext cx="2743200" cy="1992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76520" y="380880"/>
            <a:ext cx="5190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s Cuart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066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El dormitormio tiene una cama y una si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38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es muy impresionate. Y es muy estupendo tamb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5562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tiene una piscina y es muy gr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3434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dormitormio tiene una moderna cama. El dormitormio es muy gr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429000"/>
            <a:ext cx="990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66920" y="3733920"/>
            <a:ext cx="68580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304920"/>
            <a:ext cx="4495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6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Times New Roman"/>
              </a:rPr>
              <a:t>Las Cocin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2971800" cy="20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52880" y="1984320"/>
            <a:ext cx="2971800" cy="2225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46483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La cocina es muy bonita y moderna. La cocina tiene una m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648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La cocina tiene un refrigerador. La cocina es muy incredible tamb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47920" y="228600"/>
            <a:ext cx="57909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s Comedo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19920" y="1295280"/>
            <a:ext cx="2695320" cy="169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48120" y="1295280"/>
            <a:ext cx="266688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362400">
            <a:off x="675360" y="342900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f010"/>
                </a:solidFill>
                <a:latin typeface="Arial"/>
              </a:rPr>
              <a:t>El comedor es muy moderno. El comedor tiene una mesa es grande tambien.</a:t>
            </a: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00800">
            <a:off x="3476520" y="335520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comedor es magnifico. El comedor es muy lujoso y grande tam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895480"/>
            <a:ext cx="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1220200">
            <a:off x="6400080" y="3275640"/>
            <a:ext cx="144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l comedor tiene muchos sillas. Y un grande mesa tamb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514600" y="228600"/>
            <a:ext cx="41148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s Sala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2286000" cy="152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2133720" cy="167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438280" y="411480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0" y="3962520"/>
            <a:ext cx="2057400" cy="144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350532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El salón es grande y llena de color. Hay sofás blancos y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5638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s luces son de color azul y naranja. Y es mu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4290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 sala es de color marrón gris y grandes 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259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La sala de estar es muy colorido y li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633840" y="2209680"/>
            <a:ext cx="1876320" cy="2438640"/>
            <a:chOff x="3633840" y="2209680"/>
            <a:chExt cx="1876320" cy="2438640"/>
          </a:xfrm>
        </p:grpSpPr>
        <p:sp>
          <p:nvSpPr>
            <p:cNvPr id="79" name=""/>
            <p:cNvSpPr txBox="1"/>
            <p:nvPr/>
          </p:nvSpPr>
          <p:spPr>
            <a:xfrm>
              <a:off x="3633840" y="2209680"/>
              <a:ext cx="1876320" cy="24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47920" y="4724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477120" y="3581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32480" y="5409720"/>
            <a:ext cx="27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es grande y tiene un fregadero de dos senos y muy bon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76520" y="0"/>
            <a:ext cx="5638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os Baño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098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</a:t>
            </a:r>
            <a:r>
              <a:rPr b="0" lang="en-US" sz="1800" spc="-1" strike="noStrike">
                <a:solidFill>
                  <a:srgbClr val="20f010"/>
                </a:solidFill>
                <a:latin typeface="Arial"/>
              </a:rPr>
              <a:t>es moderno y e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tiene una banera. Y un fregad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5257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0f010"/>
                </a:solidFill>
                <a:latin typeface="Arial"/>
              </a:rPr>
              <a:t>El baño tiene una grade banera. Y una ducha tam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3:15Z</dcterms:created>
  <dc:creator>rizzolomar</dc:creator>
  <dc:description/>
  <dc:language>en-US</dc:language>
  <cp:lastModifiedBy>rizzolomar</cp:lastModifiedBy>
  <dcterms:modified xsi:type="dcterms:W3CDTF">2012-05-29T13:05:58Z</dcterms:modified>
  <cp:revision>14</cp:revision>
  <dc:subject/>
  <dc:title>Slide 1</dc:title>
</cp:coreProperties>
</file>